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C52-DDA1-480F-B0F9-A34EFAA3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906-4833-4003-8F0C-DCB9014D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CB6-5C96-4D6F-9184-6870BB95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A70-2B64-4E56-905A-6B4236FA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99A-D7D0-4956-85FB-F86344CA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830-5A2A-4978-980D-6449FDCF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769-7A3B-48D0-AAD1-8F2032A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B01-39C4-492B-8307-5A40F332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BA1-AF06-4A13-ADD6-CDC4C60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BCF-6EBC-44CE-8720-DC848EF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9F1-3934-4B63-8BC0-945E30A8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471-0A79-4B3F-BE0D-23228FB2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A33C-C3A7-4097-94F7-734C760ED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Great San Francis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thquake and Fire of 1906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391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21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5120" y="2206800"/>
            <a:ext cx="5790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391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137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3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658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614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132360" cy="313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14600" cy="911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819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9020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2:51Z</dcterms:modified>
  <cp:revision>14</cp:revision>
  <dc:subject/>
  <dc:title>No Slide Title</dc:title>
</cp:coreProperties>
</file>